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0D27-087F-4F57-8D5B-B804D867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2E5-4A58-4546-9F4B-2D9847DC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46C8E-F431-4295-B806-36A358E7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7E623-A909-437A-87AE-541BD0CF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7AC14-AEC6-4D26-8301-21481AC8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24579-7630-45AC-B8E4-8130830A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E8A3E-C50F-48A7-A16E-75A71E4C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516D8-B87E-486A-8479-F1BB42BA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C1A4C-A157-4F7A-8CE2-DF743786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5E5A2-44F2-47E8-9381-E18CFCE8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A72D5-B0ED-48C7-8C45-FB031DF1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9433F-1474-489A-AFF9-C258BC89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17A-5540-4FDB-A199-F5FBAF66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C8717-947F-424C-8A58-90585925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25867-288A-4DC3-9123-264E8104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D294B-EC04-4E45-8271-F58A0D5B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3B2C0-B9BD-4877-94E1-95F35167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D9C13-3522-4FBC-91C6-A663C484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FF0A2-C59D-44E5-8E0C-BCC9717B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FD272-E602-4BAC-94B3-B6BDFE4B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D69E1-6887-4093-B2C2-E1667891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9DA81-AFE7-4531-BB91-874ED492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8E79B-3E9A-457F-9E1E-116E9389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32A-9A8E-4788-BBA8-7127C73E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74A67-25F7-4A82-A3AA-0E38B517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AE6C3-B45A-425C-8986-6203BE7B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F146C-59AC-4395-B9B6-607AB8DF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FB511-8C6C-41B3-BE1F-EA6E078A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A8B6B-2C89-40A8-BADF-3B776277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E0509-125D-409A-AEBF-2B9A4BC3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79C49-7A4C-45CB-A721-96AC8BE1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61570-B467-4130-ACA9-AF2C2BAD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AFC5A-58B6-4FC7-9C18-E2F99119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57FCE-8982-456E-A211-108DB86D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E4B3-320E-4B80-AC93-0C6798E4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6DD68-9006-4863-95D8-C0A68531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2C779-8738-4F46-BFBC-9FC3556F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9975C-0A1B-4045-B252-E710D8AD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32450-065D-4A44-B221-5B927A01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9885F-4FB0-40B5-86BF-E6FB6BE9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96FAB-9030-4FF9-9EC0-D36985A5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F0C0A-F1FB-4209-8B66-CB2833EB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35368-6A20-4493-A588-8D8027A7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A1867-AD22-4CFC-986D-BCF08C01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B838A-13E4-4335-8F4D-C679FB93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164C-C7AD-4DFA-BF9F-809E5266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00B3E-F940-4391-B48B-E7921904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4D216-A0DD-4FFB-B606-AB6B4D3F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55028-66A4-4398-9F22-C1C1744C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A742C-438C-4062-B8B4-3959A29F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7C8B8-3EC6-4147-98E0-5882F3B5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9802C-59A0-4C73-A281-78178261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B1D5F-7252-4778-8EA9-E846FA67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0E44E7-ABD7-4843-9923-3BE25ACD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9CF92-2458-4632-A6D6-47DB4E65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E6A96B-8289-4B0B-AA2F-4686B16A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1A27-5747-4438-A592-80AC179E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A9943-C58E-43AA-ADF4-D5F4398F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21486-B2D4-4DA2-9FCA-49AFA1C1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FBB510-B7D6-45DC-B604-1C4A3CC3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3269FA-5384-4F1D-A86F-6E3AD3DC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3C33E6-5E5C-43E8-AE6F-055D8A75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A53F7-9C64-4259-BDFF-B6F86498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C3ACA-D5FB-4B7E-B27F-9E57EFF7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0DD29-B8DF-4220-A58A-D8D2363A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CC8815-B363-40FC-8A02-BC92375E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1F1476-A586-4E10-91F5-A5F07CF7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02E1-DADE-402B-87D7-FBF19D38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5C7A6-4BF7-42CA-89C7-CBFEA78E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AE7F6-1B2C-4D46-90BA-9FCD1E0D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FD6016-166F-4719-B6EC-06D04723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B044F1-15EA-491D-9E9D-D3E4CC70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E5DAFE-497B-44AB-AE7D-F5E7B740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24EAD4-2B29-4394-A540-245C33A7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B1730-4D92-4F92-B8B6-AEA2B639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3883E1-DF21-44D5-A538-0D7C50D5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F7B5E5-9EA3-407E-8407-885217ED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5DA6CA-FF7C-44EE-8E3B-35AB3146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E8FE-CB38-4B3F-9000-9599B94F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330249-281B-420A-AB33-79006C24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B51EC-C981-4E4E-887F-8EF5C986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1DD42-AC5C-4498-8119-86F15416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3513E8-5A1D-43EB-9A0D-FD6A60F0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6D1365-BA05-4450-A9E1-4015B523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8CA19C-7FDB-4E03-B273-D2F47621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C1CF36-7B79-4DF4-8414-A2A5E10E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32AAC7-DFE5-419C-9637-B8D6A304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A1D88C-DFCF-413E-AFA6-2B046B13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88CA6D-1350-48C3-B3D2-8A14063B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454D-DB33-4571-BF40-67DB5FDC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FF6A42-87FB-40C3-8730-0E8B82D8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31C85A-361E-4CC7-A195-8B0BE7F1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B327F4-F62E-4993-9F35-0E840C04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AE93E5-828D-476B-9FB4-33B17B9C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D150AD-2ADF-4DC1-BC6D-203EA005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19B393-77CC-4D5F-97C4-DDCB37FB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61E4AF-B8B5-4EB9-BAB7-CC3E9D6A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627F9B-D32F-4570-8E9D-29AA0682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C57CC8-5D49-497A-98A4-AD16D821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662270-DCCA-4F21-AE19-2445B459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48E1-7C0D-4DB9-A6D7-54A3BE49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8014D5-52AA-4A91-8953-44FDA974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0E6865-45B5-4BE1-9A47-DFAE0199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D5FCD8-B103-4F19-AF72-E995E207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BA489A-D0EB-484C-85DE-A8038F24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103924-4451-4D05-90DD-D8DB3A4C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4EEF06-AA89-4E05-87EC-BF1EECD9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81E996-75AC-4BD4-81CD-25A39FD7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F56B77-7D33-4A16-BDE6-39A4DFF6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553528-4E77-49FC-95EE-F598F499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9E1A84-5EED-4618-B942-C971C565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78E-4321-4B0F-BEF5-C944AD94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4CA7-F2BA-47E4-92B5-993A1CC5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3DD46B-4309-4FE5-A518-1A64448B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B437D7-56B7-48E7-8DDF-4128BA1A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756D52-C3C1-4217-91CD-E476DEA3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3E8D0B-4992-4C56-8E58-FD44F00B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D3C271-790D-4676-846E-31805918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F7ED16-512F-488E-8BD1-962F33C3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9BB61D-423E-4A5A-8B4B-36652518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A9207E-6F41-432B-A7C5-F97CA3D6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D90F00-7AAB-48AA-A602-00113706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DE735-C5CF-4269-8A74-409F99C4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9CD3-1E82-457F-847A-9B840C92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906227-EBBF-4EBB-9463-F6B93626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F05D38-2B46-40EE-A461-82BEE3B8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397151-E53B-47A3-90DB-3C8534D1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58473A-D96B-4286-8608-489C5810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B5DBAB-23E8-4A94-932F-40A96E28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C75911-EAE0-44EF-B8C0-801224DD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836D5B-C165-4BC9-A47F-886ED8CA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DBFD-2A37-48F7-ABD5-25A9176F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F918-4279-4B96-98A0-41C3C03D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B052-AE9B-453E-86CB-0FE82088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2109E-3050-4811-AB5C-B040019D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84486-6095-4AC4-B76C-938443A5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54D4A-17F6-4946-AA33-5F5DB451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B3A74-1D20-4FA0-B14B-3E6A7F8C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0FC1C-FA5D-432A-9D58-B21756E7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3E5F-3CAF-43D0-81D2-15C2E16E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F25F5-4D9E-44D3-AA29-6054EA58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B3293-FC2E-4234-A094-A4496E27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B34B3-2783-4DF6-B54C-E065CE18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FDC88-B154-499C-A3A0-F2D3DE4C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3E7BA-3213-4870-AC0C-743C7DC3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4E1D0-FAC3-4634-936D-B267266C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3ED65-9925-4EB1-A619-B89CC69C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541D2-7214-4771-B8DF-6753002F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193EE-245D-4AA3-B08A-15AFBFD3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D56B2-A968-4E84-AFC2-2DB2D987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A187-F4E0-4728-8B6A-82BAC2A7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4B506-8FBA-4283-B9CA-DBB56E91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8AA6D-91B1-450E-8F30-E38F752A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139D4-3E3F-4EAF-A90D-16DC7927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481E2-A933-4BBA-9524-10A06BCB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4E177-CD14-488B-B629-D0EC37B9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B3EBD-A671-436A-B65E-8F7D6F7E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81979-61A0-4E60-B82B-463967B0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B3F84-3E01-4FB0-B211-240A72D3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5CC7F-DF15-44E8-89A8-D3371AE3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FD838-112B-4F4C-BDFB-D48EACD7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4D9-F774-41E8-9D77-F4F0487A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705F7-3CA2-43DD-AC30-4F761C6F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CF318-86E9-45C5-A0D8-69D67340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2388C-2A69-447B-8A9C-567EA2E5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27089-DC9E-485A-BAE8-35CECAA9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F9614-70CB-4F49-BCB0-7BECA51B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3AAE6-AFDE-4CEF-96E5-02324D13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9FEDC-453D-4035-865B-29B4CA08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C7858-8B99-4060-BCBB-69E2728D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2D904-08E8-4540-8877-E92910C9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EC9A8-1B7A-4A27-A3F9-5FA13117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FB7-5C31-429A-95C6-4FC68C7A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531AF-BD09-4E0D-8124-244FDCD1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7805D-2298-4DE7-98A3-C05B7B4F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D2C4D-76F4-4F86-9AF9-B1716BE2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F3C77-8E96-4570-9F85-1EC862E2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7994F-C3D2-4E54-A31A-9EBE83A9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B3479-235D-4BA2-A7F1-CDD6C87A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97FDD-28B5-42E7-B9E6-29CBFAC9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A3A1C-9BA8-4F6D-8B04-442932BD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61B31-061D-4A2C-83F0-E12EB27C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22997-F1D8-4E53-83BB-D034C80D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C7B-C349-4283-A21F-D7CB7D67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E935A-9FAA-4F48-90E2-FEF1EB8E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7D512-C6E9-4839-8681-F29962FC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86211-4C97-4D4B-9B3B-3AEE6E90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2D58A-4D60-48D0-A80A-98BC306D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54749-4FF3-470D-BED4-6F923683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68655-A807-49A2-A5AF-8E2FBFFE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B29CB-B7B0-4029-ABD4-92C95E5A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7DAD5-E4C5-49CF-AB29-0546908A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C6E3B-5460-4416-BAE4-E8FB1D57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ED19B-C28A-4240-B565-9336AFFC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3CD-2364-45E2-B143-80A02F7D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954BA-573B-4350-BE88-BCD3EE21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62FA1-0445-47B0-AC12-FC1B44C6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42E86-D48B-412C-9CD1-3A61B525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0F7EF-DD33-4D9E-9F7D-2412D861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B4531-14B8-4D4D-A9BB-2B83FD80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FE63B-AD1D-4CAB-81A8-A93097FF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EFD72-1FA4-411F-AFFF-F931D8ED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55AE9-B62C-42D2-8B9C-67B2C248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FA648-050B-48C7-992C-0FE92DD9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51438-D43A-4D85-A352-A93CA927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58C2-9E36-4F01-A7C3-8F87507C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8502C-A842-4463-A5C2-B1A84B95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9AE47-7D4A-4EF4-AB9B-F83FF858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EC774-2B25-4F8C-9104-839F3A89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F093C-C446-4D80-8032-31F378AC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62D46-D1DA-43A9-B304-D2D712A7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7E6CC-FA9F-4BDD-9116-5731F966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9EBFF-7412-4907-9E8B-A53CBE5D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37C54-3E2D-4CB3-98E9-048EDA11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5D0F9-4257-4BB7-8170-63B02676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1D897-306C-4C25-871D-044DBF96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6CC3-BBB2-4E22-AB59-2BCA07052D3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9297-D8E3-43CC-96C2-429E6A6BE99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E148-DBD8-4720-BBE9-99144C6796E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0F9E-D284-4142-8ACC-62D0B7C3DA2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38F2-1DC5-4DC4-B7B3-505A5B6D401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7C1E-8FE2-4E40-A3C2-6606E231279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3AF2-0530-419B-9C03-F2C6565E2A5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A8AD-AD55-4A55-BC88-E5204212CD1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A15F-0E6B-4AFB-8B46-60619831E74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B6F6-021C-4B7D-BF09-3852550AA29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CC60-9E1D-433E-9E0B-8E09025CD73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0C9A-C846-4A47-A1EF-79CF78410AB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794D-C462-4667-9F65-5BADAFF9631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18D6-66FF-4324-9B63-CE716FD52EB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0D8D-A794-45C7-90CD-4E9B977546D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A153-3EAC-4DD4-AB98-1AAABB7FE35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DFE5-8C83-41A8-8C85-54567E3137E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7338-3198-403B-A5C5-16E0BE44D33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 психолого-медико-педагогического консилиума (ПМПк) в образовательной организации (ОО)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250920" y="3212640"/>
            <a:ext cx="8642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59595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лючения специалистов, коллегиальное заключение ПМПк доводятся до сведения родителей (законных представителей)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доступной для понимания форме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предложенные рекомендации реализуют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с их согласия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аправлении ребенка в ПМПК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я коллегиального заключения ПМПк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ыдается родителям (законным представителям) на руки или направляется по почте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и заключений специалистов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яются только по почте или сопровождаются представителем ПМПк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другие учреждения и организации заключения специалистов или коллегиальное заключение ПМПк могут направлять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по официальному запросу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формах учета деятельности специалистов ПМПк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Журнал записи детей на ПМПк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179280" y="1844640"/>
          <a:ext cx="8640720" cy="3637080"/>
        </p:xfrm>
        <a:graphic>
          <a:graphicData uri="http://schemas.openxmlformats.org/drawingml/2006/table">
            <a:tbl>
              <a:tblPr/>
              <a:tblGrid>
                <a:gridCol w="365400"/>
                <a:gridCol w="858600"/>
                <a:gridCol w="1079640"/>
                <a:gridCol w="1297080"/>
                <a:gridCol w="647640"/>
                <a:gridCol w="1536480"/>
                <a:gridCol w="984240"/>
                <a:gridCol w="187164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д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ова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Журнал регистрации заключений и рекомендаций специалистов, коллегиального заключения и рекомендаций ПМПк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250920" y="2781360"/>
          <a:ext cx="8642160" cy="3095640"/>
        </p:xfrm>
        <a:graphic>
          <a:graphicData uri="http://schemas.openxmlformats.org/drawingml/2006/table">
            <a:tbl>
              <a:tblPr/>
              <a:tblGrid>
                <a:gridCol w="353880"/>
                <a:gridCol w="835200"/>
                <a:gridCol w="1052280"/>
                <a:gridCol w="1258920"/>
                <a:gridCol w="631800"/>
                <a:gridCol w="693720"/>
                <a:gridCol w="1582920"/>
                <a:gridCol w="1014480"/>
                <a:gridCol w="1218960"/>
              </a:tblGrid>
              <a:tr h="22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коллегиаль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ПМП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остав ПМП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 в Российской Федерац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РФ от 29.12.2012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273-ФЗ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Принят ГосСоветом РТ 28.06.13 г.). Закон РТ от 22.07.13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68-ЗРТ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сновных гарантиях прав ребенка в РФ»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от 24.07.98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4-ФЗ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НО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ающихся с ОВЗ»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8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образования обучающихся с умственной отсталостью (интеллектуальными нарушениями)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9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Положения о психолого-медико-педагогической комисси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20.09.13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08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психолого-медико-педагогическом консилиуме (ПМПк) образовательного учреждения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 РФ от 27.03.2000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27/901-6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создании условий для получения образования детьми с ограниченными возможностями здоровья и детьми-инвалидам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иН РФ от 18.04.08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порядке создания и организации работы ПМПк ОО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каз руководителя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О при наличии соответствующих специалистов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Устав О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говор между ОО и родителями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законными представителями) обучающего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мерный состав ПМПк (комплексный подход):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щее руководство ПМПк – руководитель О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седатель консилиума - заместитель руководителя ОО по учебно работ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, представляющий ребенка на ПМПк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дефект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рач-педиатр, медицинская сестр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 ПМПк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иагностико-коррекционного ПМП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бучающихся с ОВЗ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сходя из реальных возможностей ОО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татья 3. Закон №273-ФЗ: «в пределах, предоставляемых образовательной организацией». Устав ОО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соответствии со специальными образовательными потребностям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возрастными и индивидуальными особенностями, состоянием соматического и нервно-психического здоровья обучающихся, воспитанников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уктура дефекта: что первично, что вторично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дачи ПМПк 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ыявление и ранняя диагнос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тклонений в развитии и/или состояний декомпенсации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 течение года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офилак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изических, интеллектуальных и эмоционально-личностных перегрузок и срывов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едупреждение хронификации и появления вторично-вторичных дефектов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яв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резервных возможност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азвития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озможность создания новой функциональной системы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характера, продолжительности, эффективности, необходимости изменени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пециальной (коррекционной) помощи в рамках имеющихся в данном ОО возможностей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лановые (1 раз в квартал) и внеплановые консилиумы по запросу родителей, педагогов, других организаций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ка и вед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кументации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отражающей актуальное развитие ребенка, динамику его состояния, уровень успешности (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собы фиксации данных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правление на городскую (районную) ПМПК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определения дальнейшего образовательного маршрута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отсутствии в данном ОО условий, адекватных индивидуальным особенностям ребенка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еобходимости углубленной диагностики и/или разрешения конфликтных и спорных вопрос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значение ведущего специалиста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олигофренопедагог, или тифлопедагог, или сурдопедагог, или учитель-логопед, или нейропсихолог)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б интегрированном воспитании и обучении детей с отклонениями в развитии в дошкольных образовательных учреждениях». Письмо МОиН РФ от 16.01.2002 г.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03-51-5ин /23-03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3588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25056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формы и степени интеграци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ебенка с ОВЗ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 создании условий для получения образования детьми с ОВЗ и детьми-инвалидами». Письмо МОиН РФ от 18.04.08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)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бычном классе по индивидуальному учебному плану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классе </a:t>
            </a:r>
            <a:r>
              <a:rPr b="0" i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мпенсирующ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енности (по профилю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состава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еждисциплинарной команды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жбы 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под руководством ведущего специалист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оводи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ррекционно-развивающее обучение; внеурочную специальную (коррекционную) работу 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оциализация, общение);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слеживание динамики развития ребенка и эффективности оказываемой ему помощи; обучение родителей технологиям сотрудничества с ребенком; оказание психологической поддержки; выходит с инициативой повторных обсуждений на ПМПк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3T12:58:05Z</dcterms:created>
  <dc:creator>Марина</dc:creator>
  <dc:description/>
  <dc:language>en-US</dc:language>
  <cp:lastModifiedBy>Пользователь</cp:lastModifiedBy>
  <dcterms:modified xsi:type="dcterms:W3CDTF">2018-05-16T17:46:14Z</dcterms:modified>
  <cp:revision>31</cp:revision>
  <dc:subject/>
  <dc:title>Алгоритм деятельности психолого-медико-педагогического консилиума (ПМПк) в образовательной организации</dc:title>
</cp:coreProperties>
</file>